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D732-90A7-4C39-AB06-6DFC939C6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06DE-3530-4DEF-8615-FC8EAA8E9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57C2-FB04-4518-881A-8FE6CE211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9C11-CE81-4BFC-BA6C-A71772441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96D8-DCA1-4C5E-B69A-986991AA7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8F89-96FD-4542-AA29-936AD71CD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0A55-4F4B-41D5-9D50-51D69916B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862B-DE03-4F27-8549-8F135F228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167B-3785-47EC-9155-A68D0C487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4660-7544-4F0B-888B-52929686F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C01A-4BDD-4D6A-B443-E145CB16F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9B37-0473-4BE0-8273-5721DCEBD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C4F87-F6DB-4C39-9F8B-0CB9A2795E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in%20título-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Sin%20título-1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in%20título-1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Sin%20título-1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Sin%20título-1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Sin%20título-1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Sin%20título-1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Sin%20título-1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Sin%20título-1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Sin%20título-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Sin%20título-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Sin%20título-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Sin%20título-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Sin%20título-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Sin%20título-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Sin%20título-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Sin%20título-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14:49:34Z</dcterms:created>
  <dc:creator>Grupo Editorial</dc:creator>
  <dc:description/>
  <dc:language>en-US</dc:language>
  <cp:lastModifiedBy>Grupo Editorial</cp:lastModifiedBy>
  <dcterms:modified xsi:type="dcterms:W3CDTF">2001-09-20T14:52:44Z</dcterms:modified>
  <cp:revision>1</cp:revision>
  <dc:subject/>
  <dc:title>Sin título de diapositiva</dc:title>
</cp:coreProperties>
</file>